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BCE-DB7C-4230-93EA-865335B0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630-912B-49BE-A452-76627F5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B2F-EF1E-4FCF-8819-E28B73B3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2FE-C360-47A1-99CB-8C68073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FFE-9EBC-4ACB-A5E3-53F45B7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068-6D2B-4ED5-9E13-3CC889FF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E9E-08AA-46FA-93B8-66C7AB4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D76-5FB4-4038-AA7B-2D881041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F14-063F-4583-8927-073FF947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95F-8F90-49C5-B5F8-3D929C4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2F7-2324-467F-A793-71692F3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C22-0A86-425F-8798-D580A01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0BCB-E520-46F2-B039-D0389C41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ernado se levanta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ernado va a trabajar.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ernado mira a la tierra.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Bernado toca su trompeta.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Bernado da luz a la luna.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500"/>
            </a:br>
            <a:r>
              <a:rPr b="0" lang="en-GB" sz="9500" spc="-1" strike="noStrike">
                <a:solidFill>
                  <a:srgbClr val="000000"/>
                </a:solidFill>
                <a:latin typeface="Arial"/>
              </a:rPr>
              <a:t>Bernado llora mucho.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43:54Z</dcterms:created>
  <dc:creator>Helen</dc:creator>
  <dc:description/>
  <dc:language>en-US</dc:language>
  <cp:lastModifiedBy>Helen</cp:lastModifiedBy>
  <dcterms:modified xsi:type="dcterms:W3CDTF">2010-06-09T18:32:46Z</dcterms:modified>
  <cp:revision>2</cp:revision>
  <dc:subject/>
  <dc:title>Bernado se levanta.   </dc:title>
</cp:coreProperties>
</file>